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61C5-37CE-4319-803F-7F48FCC8C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4C58-770C-4E80-89B1-D0FDAEAAE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thebioside.ning.com/forum/topics/pre-class-ch-38-angisoperm-reproduction-and-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E28F-A0CA-4E12-836C-4737F4B4D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9B94-5497-4DEE-9582-F122F82C5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reatheandsmile.org/happiness-or-success-which-comes-firs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0FE1-19F6-435A-A780-BF1FC6745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0068-6339-4314-9683-273A575B2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ight4good.blogspot.ca/2012/05/genetically-modified-food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EF40-E4F0-4628-9168-D6941823A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ccessexcellence.org/RC/VL/GG/restriction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DEAC-F702-4C4F-9FA4-8B0EDB3D2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DC18-A517-4C64-85B1-294B29DA3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mages.businessweek.com/ss/09/06/0604_decade_of_disappointments/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ly, from an article calle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cade of disappointment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B5B5-56D9-4959-A996-1E9A24944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23A2-B0B2-42B9-9807-925BF372C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gamerfitnation.com/2012/06/game-difficulty-has-not-change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79D5-EE5E-42C5-9CE0-94D027F28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A5CA-8327-4CAA-9FCE-2CF435791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akingmountainsmove.com/?p=26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771-990E-459A-A77C-5E448F15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5E1F-2AFB-45F1-AC42-D23E38E5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888C-2816-403C-9D39-A983A7B2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0100-013C-4D2F-8205-223AB339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443F-572E-44E6-AB41-DF6D9A66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7D2A-92C1-480C-B96A-F8AC2AF7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B7D-62BC-467A-8400-C87BFAAA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8D2-3780-4391-96E0-71B2FCAB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6BB-E01A-40DD-9823-FC8B812D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E7D-B84C-4A06-9C4D-6AA4AAB9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F1E-AAFE-4D49-BC09-6F724F8B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98BA-DC9C-4F11-86AB-308A454C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1A18-B949-40BF-BBFE-ADD8BA900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pulating the Gen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back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atients have died during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atients developed leuk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SUCCESS"/>
          <p:cNvPicPr/>
          <p:nvPr/>
        </p:nvPicPr>
        <p:blipFill>
          <a:blip r:embed="rId1"/>
          <a:stretch/>
        </p:blipFill>
        <p:spPr>
          <a:xfrm>
            <a:off x="1143000" y="60948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ful gene therapy in dogs for blindness, in mice for Duchenne muscular dystrophy, and in guinea pigs for hearing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me patients wi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nital blindness have had their vision almost completely rest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information from different organisms can be combined, form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orange kiwi"/>
          <p:cNvPicPr/>
          <p:nvPr/>
        </p:nvPicPr>
        <p:blipFill>
          <a:blip r:embed="rId1"/>
          <a:stretch/>
        </p:blipFill>
        <p:spPr>
          <a:xfrm>
            <a:off x="4648320" y="2770200"/>
            <a:ext cx="380988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restriction"/>
          <p:cNvPicPr/>
          <p:nvPr/>
        </p:nvPicPr>
        <p:blipFill>
          <a:blip r:embed="rId1"/>
          <a:stretch/>
        </p:blipFill>
        <p:spPr>
          <a:xfrm>
            <a:off x="2185920" y="1600200"/>
            <a:ext cx="4618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that produce human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toes with fish antifreeze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ts that produce spider silk in their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 corn with bacterial gene that produces insectic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 to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genetic defect through the addition of normal gen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air of the defective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viruses as 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29" descr="Difficulty-road-sign"/>
          <p:cNvPicPr/>
          <p:nvPr/>
        </p:nvPicPr>
        <p:blipFill>
          <a:blip r:embed="rId1"/>
          <a:stretch/>
        </p:blipFill>
        <p:spPr>
          <a:xfrm>
            <a:off x="685800" y="770040"/>
            <a:ext cx="77724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iculti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reatments necessary to have sustained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control placement of inserted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system may attack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 may cause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seases are caused by more than one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29" descr="overcome-obstacles"/>
          <p:cNvPicPr/>
          <p:nvPr/>
        </p:nvPicPr>
        <p:blipFill>
          <a:blip r:embed="rId1"/>
          <a:stretch/>
        </p:blipFill>
        <p:spPr>
          <a:xfrm>
            <a:off x="1407960" y="609480"/>
            <a:ext cx="632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15:04:13Z</dcterms:created>
  <dc:creator>rubina khan</dc:creator>
  <dc:description/>
  <dc:language>en-US</dc:language>
  <cp:lastModifiedBy>rubina khan</cp:lastModifiedBy>
  <dcterms:modified xsi:type="dcterms:W3CDTF">2015-12-05T03:06:58Z</dcterms:modified>
  <cp:revision>25</cp:revision>
  <dc:subject/>
  <dc:title>PowerPoint Presentation</dc:title>
</cp:coreProperties>
</file>